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225-A034-47EE-99F8-07FD5C54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11A-3B08-4435-8E30-00835A75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4B0-ECCD-444F-B776-A15C463D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14E-8755-4ABE-B4D6-79089F10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E58-B2D3-4240-9CF8-977B012A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0D7-C5A3-4F99-BA99-07FEB560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55B-6BF0-4558-B40F-37D3DF1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2E5-0D71-4555-85F3-13D7894F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A64-D5EC-41C3-9294-F8AF66C1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C9B-D48D-45BA-AA8D-E7F3D81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24E-E6B7-4BBF-93DF-E58AD635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E40-881A-4846-BAC8-B99B961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A58F-5524-479E-80BC-C661D9DF1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152280"/>
            <a:ext cx="4495680" cy="685800"/>
          </a:xfrm>
          <a:prstGeom prst="rect">
            <a:avLst/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VS repository firmwar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1447920"/>
            <a:ext cx="49532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irmware/ local working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2895480"/>
            <a:ext cx="2133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ems.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86200"/>
            <a:ext cx="19051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oot/main.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2666880"/>
            <a:ext cx="19047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c/tables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666880"/>
            <a:ext cx="19051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c/config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962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c/tables.m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962520"/>
            <a:ext cx="19051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c/config.m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00400"/>
            <a:ext cx="129528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3962520"/>
            <a:ext cx="129528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inA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28600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y_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105520"/>
            <a:ext cx="25146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minal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876920"/>
            <a:ext cx="33526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4876920"/>
            <a:ext cx="1905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lash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876920"/>
            <a:ext cx="1447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EP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6095880"/>
            <a:ext cx="1905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lash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17220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019920"/>
            <a:ext cx="19814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S2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21360" y="2362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2480" y="95580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vs checkout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610120" y="205740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d boot;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686440" y="44956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81280"/>
            <a:ext cx="763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581280"/>
            <a:ext cx="16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vrdud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vr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or prog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8280" y="34290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ke m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648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4572000"/>
            <a:ext cx="3505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4114800"/>
            <a:ext cx="228600" cy="76320"/>
          </a:xfrm>
          <a:prstGeom prst="line">
            <a:avLst/>
          </a:prstGeom>
          <a:ln w="324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24382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66880" y="5181480"/>
            <a:ext cx="990720" cy="15264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666880" y="4724280"/>
            <a:ext cx="1219320" cy="4572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33720" y="60958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86200" y="65530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9040" y="6400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vrd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563868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5486400"/>
            <a:ext cx="2667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4460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vrd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3000" y="22860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ww.vems-group.or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680" y="1447920"/>
            <a:ext cx="345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e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_fw_snapshot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68580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ork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952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8840" y="10666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486400" y="2666880"/>
            <a:ext cx="685800" cy="1371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819520" y="3581280"/>
            <a:ext cx="1295280" cy="152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19160" y="2133720"/>
            <a:ext cx="1447560" cy="1447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6560" y="22096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globa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0520" y="23623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0862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sys</cp:lastModifiedBy>
  <dcterms:modified xsi:type="dcterms:W3CDTF">2004-11-01T11:31:45Z</dcterms:modified>
  <cp:revision>3</cp:revision>
  <dc:subject/>
  <dc:title>PowerPoint Presentation</dc:title>
</cp:coreProperties>
</file>