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C81-0870-4B89-BBD5-C61C25A6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1036-E7DC-41A3-A632-EF236200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DF94-0B23-4FB7-8339-300B4B4E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C1D4-8016-4D7C-9AEE-3F7108BD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7B3-B0DB-487D-ACB2-67EBCB47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BB5-7EBF-4BDA-AB15-154F5944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8848-8490-4E93-9B9E-0FF8FB21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E3AA-404C-4C90-98BE-1BD07B95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CE1C-3154-4352-8FB3-9E9932C6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AF7C-6BD5-44CE-827C-B1272ACD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D3AC-58FF-4AF8-BFAF-D8EF914E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E16E-9BC0-4F24-8BCD-FDDCB856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FA8E-59FD-4A5D-9D39-CE822EF0A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228600"/>
            <a:ext cx="6705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njector behaviour in function of pulsewid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Injamount (p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ffective_flowrate (pw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p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ote that this is not the actual flowrate vs. time after pulse applied, but the overall effect of injector opening and clo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3276720"/>
            <a:ext cx="7848720" cy="32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0080" y="1219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624852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286000" y="4190760"/>
            <a:ext cx="0" cy="205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438280" y="4190760"/>
            <a:ext cx="144792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666880" y="4190760"/>
            <a:ext cx="22100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4191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285640" y="419112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124080" y="4190760"/>
            <a:ext cx="0" cy="205740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57150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nj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3009600" y="32382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21720" y="331776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njoc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838080" y="365724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7480" y="3699000"/>
            <a:ext cx="13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low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88600" y="377496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ull flow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8320" y="487692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ower VB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7440" y="434340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igher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3440" y="57913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ulse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11:47:48Z</dcterms:created>
  <dc:creator>tsys</dc:creator>
  <dc:description/>
  <dc:language>en-US</dc:language>
  <cp:lastModifiedBy>tsys</cp:lastModifiedBy>
  <dcterms:modified xsi:type="dcterms:W3CDTF">2004-11-01T12:40:14Z</dcterms:modified>
  <cp:revision>1</cp:revision>
  <dc:subject/>
  <dc:title>PowerPoint Presentation</dc:title>
</cp:coreProperties>
</file>